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53B-DA84-4180-9669-246879B0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0A8-8675-4BA0-9991-5291A1FC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D84-2640-4A59-8AB8-5F92A31B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DA6-39D5-464E-9B18-95E5703B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8A7-A259-4AFB-A1AB-FA6552EC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05D-41C1-4D40-BF74-1B19C0E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2D5-A331-4E0F-8A43-71FC6E8A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AE6-B125-479F-8024-1191858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716-5EC5-4371-A2DE-837DD7A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A77-EE35-451F-9D21-5847817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0EB-DE9C-49AD-97E5-843A884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CAB-FA18-41E5-82F7-CD3A085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66A-DC58-4979-8365-1032AD10396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16:25Z</dcterms:created>
  <dc:creator>Grupo Editorial</dc:creator>
  <dc:description/>
  <dc:language>en-US</dc:language>
  <cp:lastModifiedBy>TORRES</cp:lastModifiedBy>
  <dcterms:modified xsi:type="dcterms:W3CDTF">2010-12-18T22:19:05Z</dcterms:modified>
  <cp:revision>2</cp:revision>
  <dc:subject/>
  <dc:title>Sin título de diapositiva</dc:title>
</cp:coreProperties>
</file>